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48C-1EEB-4A77-B208-77704636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E98-F8E4-440D-A32D-6478BDA7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0BC99-EE36-4938-8D7E-E74A9BEF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C7C43-2FFC-4FB5-849C-6341FEB3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55CB1-86AE-402C-BC71-69D03279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3DC36-607A-48FB-920A-23B75BD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08996-957A-4E5F-93F5-ACADFC6F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BFF22-0B9D-4B26-A609-C12DFEBE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3A4DD-4D1E-4286-8D36-74624102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655B8-F49B-464B-B3BF-98F75D26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67F28-2F7C-49F4-BFD8-89CDA6F4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F626E-C981-4D63-AB2D-29DB0BE6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5C8-11D8-4C5D-A70D-3F142BE1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E7DA6-2DF1-4753-B082-624DC0EB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1AB75-50E8-484B-893B-EF3A0525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FE486-64EE-4C3E-A948-0834FE6D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645C5-0622-4A51-B104-1EA76590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45338-3A12-4A2E-BEE5-997C756F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29AB5-C78D-4D6D-B771-476BE932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A85C5-AE9D-4F25-89E8-ACA550A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0FA20-2D4A-405F-AE86-CA9EF81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BC430-84D1-4638-BF30-4590AD2A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5A79C-DA91-4757-A94F-7BD5390A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6D3-C3AF-4FA5-88E5-40F62A50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81592-69A4-4B0D-8B15-C6C45092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528DD-E096-4F20-965F-D813D618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86BD1-AB02-4DEB-81DD-B8EEA0D0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ED43D-42CE-4352-82B4-1104D405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15843-2402-46B5-97AC-5DA0DAD3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A4DA4-4406-4D59-A702-6F9EA75D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3263C-B123-40CA-A813-FB05A0AF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81393-2FE7-42D5-9100-6B2C5BE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5E7BD-7BE9-4BF5-93C6-9158429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4B326-65E0-4793-8B8B-38E26197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9CB1-B8B9-4BAF-A311-74F7A672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77D20-6D95-4254-B20F-43EE6E69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FF01A-890F-4629-B46E-34418B3A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7E156-CBC6-4316-9846-D5F373F6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334E0-9AC0-46C1-8978-273451A4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BCFE3-EA06-4CD0-B802-8153AC62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77282-98BA-4FCD-8423-2E2E9046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87709-5C72-4D33-B073-72B831F4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47D3D-5CD6-4628-B765-34D8FB90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F148B-8576-497B-A51B-91DED623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AC66D-02D2-4998-8E22-2689015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AD8B-4384-48A7-9218-D3E7586A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3B11E-7856-4A55-A915-4009BBF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AA683-0639-4D13-BA28-37B8518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B898B-23BE-453F-8210-EEAC9C6A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07AFC-E7C6-4B62-97DF-E1FD6A96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7155B-36E7-41D8-B4ED-A142599E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EED7-E81E-45F1-A0C1-A8E8B09C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8EEF-FF19-4508-941B-857D6CB0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F5A3-942D-43EA-B7BC-1F00D0F9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2B84-7914-4A75-B301-9B64B790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B024-4F49-4B4B-B41E-00025682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A47-DDB1-46D9-BC71-3F2F5E35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7BBF-FA2A-4E1A-AEB8-F6FE4178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E005-1183-4601-A815-636C60E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DF8B-8353-4210-BD4A-154E50A0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F2F0-4090-4D9E-BD86-688DFC31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7764-1169-4D83-B198-B8A2AD45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0CC1-343D-4480-A8B6-CFEFB625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669D-D0F6-4E18-AA96-49385C7A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AD07-534D-425E-BB91-842E3D48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6001-4A85-4A5C-97AC-DFEA5AC3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4C2E1-1A44-4AE3-B154-E032B5FB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A30-9DFF-4966-AFE6-697851E9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B46A4-9E63-4C52-A53A-A38D1DC8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2A63-854B-46C8-A76A-6519CD0D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77A4-DE5B-4632-B047-F77C734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CC6B-5D2D-4521-BF88-A6381DA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4DBD-7BBE-4D45-85B1-87A5463A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8ECCB-841A-492E-831A-6EC6F605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BC451-327A-4C10-887B-F2216628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CCFAF-857C-4BDA-9570-75B43CBD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DA24-C07D-436E-8368-0B45C256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18F0A-DC32-4869-8BC2-D2FBF412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C8F-FE44-4009-A51C-C625BEB1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EE7C5-E655-4F28-A752-49FA5396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1153-5B4F-4F6C-82A7-9674C4DD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3E29-E69A-4519-9BE6-4CC07A19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DC195-3BD1-4B9F-BD22-F5754AF4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367EC-4258-465A-BDB1-3D01E284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0F03C-A7BA-424C-8F3E-71DEEB3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F2488-BF62-41D1-99C2-DB92056B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9819-51D1-4FEE-AD94-5DF0F9F2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70E6-3E44-4A66-9070-6C3C422F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3F77-3E27-4BFC-925F-825252EB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58B-56E8-425F-BF40-E177D30D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47FA4-95DB-462B-84DD-2093DE84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B0A1-E5CC-4922-8D05-C1D99A62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47DFA-8DF6-4012-B5E0-753AD0E5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89DD4-F879-4164-9C81-C83F170F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EA4DC-07AB-47DB-864C-FF862E50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1A78-2664-49E0-84B2-FD896559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4628A-F6FC-494F-B0B9-1F8A192C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84A69-0449-44B5-9EDA-34E58103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97E7C-BF3B-433F-A5AA-CD52A2C9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C422A-F0D7-4E94-8078-179678F5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523-5B3F-4A9A-B6EE-538BAA0E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58CA-BAC2-412F-8725-9A6D649B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46393-CC66-405F-8F38-6FB46558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1D5B9-6DAB-4E16-B32C-822511AC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BBE24-4904-4034-ABA6-88ADD697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3230-9988-42B7-B027-D28619CE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8FBB9-3BEA-4E3F-9094-3DE512E2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BA4DD-10DA-4102-A24D-88FC7B93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71DCE-7BC0-40EE-8E7D-412169EC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132B0-A49C-4D20-B1A6-6F315131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4B91-5933-4431-8A80-5F6ECC5F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CD1-3FF4-4463-BCF8-2195D3D1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47C5-D3BF-42CE-85A9-7C3E8112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FDE3-5CA7-4EDB-A716-4D3AA2B9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0B0B3-0197-4841-B479-1C1F3A9A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D47F6-ABD2-414B-81C1-59E0995A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E78A7-8E79-43D6-AD85-5A068190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48267-2269-48C1-B31B-F254C653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AFD47-C06F-4D01-BC8A-AD6C3B7E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BD12C-657D-40EE-AB36-50C7251E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183A7-ABCA-4420-BD11-35E8CA6B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F27B0-0573-4162-83A5-CB1887B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C15-37E7-4A7B-B90D-8AF769B9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AC033-BD5F-4293-B256-CE8A2AEE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AF5D0-96CB-4C33-9347-E6E277B9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721C0-A55D-4501-AC3B-E8749C60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6FBB1-5916-4CDD-A3D0-EA4476B2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DBEF5-3C41-41F7-B9EE-F2981388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8EFDB-9D28-4106-8580-722EE560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22A4D-D0C3-480F-90C5-B9A4B6B7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D20A4-D4D2-450A-843D-19F4DB8D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67972-8EF9-48C9-BA92-8FF6B603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5B266-3F18-4B11-A939-046C75ED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6C0-0205-4E47-8569-86E17EC5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73DC1-471C-4E4F-B30E-03A2ADE4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9CE22-5B7D-473E-AE95-FE0DEE4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6ABBB-683F-43E4-9170-A59E121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933B9-7B87-467B-A2C1-7AB5986D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A4AD5-CF18-4E16-8388-CB224420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07F65-24A3-4027-9D8B-A061CA2D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2C087-0AA0-42AA-B1FC-F8701541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F10DF-C078-49C6-A93A-315BBB00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BCE2A-3A59-4983-93D1-DB77D4C7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9BE6D-447E-40F9-A6C9-A3F4423A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C5D0-10E1-4AA2-96A0-3940CCB3EF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049D-D5E3-4E82-8A43-343AACB1D0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6136-550A-4BDE-8085-65376EB378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CB99-C0D5-4BFF-863E-3EB5091120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2441-158F-4CD9-BD49-EFF55BB3AC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7E37-836D-4660-84C7-17C173DEE2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62C5-C409-45D8-8CD5-4F78987548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38AD-E758-4A85-AFA4-1B44BA8BAE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9DAF-E716-479A-A921-B3DA0B9C54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31A8-218D-43C8-9F08-95A5CFCBB7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0E93-30AC-4C16-942C-767E1C1908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FDE2-7E09-43C8-ACC4-DADD3E6E17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47 Ó poďme a chváľ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už pristúpme pred n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Krista láskavé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zývajme len j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áš je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Ó poďme a chváľ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ho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rišiel sem z 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kvôli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v neho dúf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inie sa cie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už pristúpme pred n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Krista láskavé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zývajme len j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áš j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chválospev vrúc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besiam sa vznáš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v Kristovi k ze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skláňa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istota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evná nádej naš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už pristúpme pred n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Krista láskavé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zývajme len j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áš j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Pánovi od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a, česť a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vesť o ňom le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všetkých str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celý svet ne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mu chválu v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44:11Z</dcterms:modified>
  <cp:revision>32</cp:revision>
  <dc:subject/>
  <dc:title>Je veľký náš Pán, on slávy je Kráľ Nech do všetkých strán  spev vrúcnych znie chvál.</dc:title>
</cp:coreProperties>
</file>